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003320" y="695160"/>
            <a:ext cx="484344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81160" y="868644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F1BCE-8474-4079-8451-E041C9A36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F58F1-FAF5-4E03-B806-4093D6CE0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2B580-5E8C-49DE-887B-870C7CDFD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67553-0E5A-465D-B742-CF613CA00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FDA61-198E-4274-9993-EF43C7672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FDB84-4149-4E4F-A8F7-89EB07270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EC0FC-F925-41B8-979E-232A85290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17BFF-A1D0-46C2-AD63-74BEDFA17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37696-CFD0-46E5-A1EC-74AD4B306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1B7B9-D13F-4DF5-806D-76A1F25A3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76903-6FA5-4DC9-840B-78D2FB7CC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232F8-8C7D-4070-ADFE-29B1E94D3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57D65-7A4D-4F40-B965-AFE4A6B6E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AA687-9CF8-4775-BD00-345AF058C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B8D48-B5B0-449A-8CFC-CBB5FA73A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8D842-D62B-409D-BE14-FE68ED80C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4F437-491C-4460-B514-E85A7D786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EDBF7-0AC4-48CA-99F4-B6AA22FD3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0CDDC-ED8B-4747-B404-2C901F946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DB794-073C-4AFD-9ED3-B6D7D2D18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05E34-8C7C-4EB9-A77F-7DDA35B6A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E603F-1DC3-4E6C-8B04-6835CA9F7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140D0-0DE1-484B-8E76-7869B080B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6C550-F43B-488D-8289-D9EC8D9EE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C839F-DB3E-4633-A6B0-6335AD8D0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11078-4082-40F6-9790-08795F838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6CC3A-A150-44E3-9308-0BFB2670B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67C0F-CFFF-420B-9EE0-290886507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B9720-9E0D-4A18-92A5-733355597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6F8A5-FD86-491D-8FD8-B1FCEA2EC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E38B3-3376-49BF-AC56-10712AF97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21134-5BD9-4004-8173-E99FE63BA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69841-D644-4C7E-AFD0-7E5F22515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08C1B-DDD4-4879-BF5B-515A92025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BB2FA-27F8-4F4E-AA58-0E508E383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245D8-C4AB-47E3-9F3B-D636BEF34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69CB1-E945-4928-BB17-54FD24E98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D66D9-BCA8-44A1-851C-8B1832940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7086C-8CD4-44D5-A85A-81855258A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7CBF-0883-4A7F-AA9E-7DEDE56BF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63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8880" y="1604880"/>
            <a:ext cx="79963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880" y="4005720"/>
            <a:ext cx="79963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06AF-CEBF-4E5C-B4CE-CB8C4818F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63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880" y="1604880"/>
            <a:ext cx="39020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86400" y="1604880"/>
            <a:ext cx="39020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8880" y="4005720"/>
            <a:ext cx="39020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86400" y="4005720"/>
            <a:ext cx="39020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F288E-6282-4853-AD03-E8AA19DFA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63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880" y="1604880"/>
            <a:ext cx="25747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840" y="1604880"/>
            <a:ext cx="25747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6440" y="1604880"/>
            <a:ext cx="25747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8880" y="4005720"/>
            <a:ext cx="25747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840" y="4005720"/>
            <a:ext cx="25747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6440" y="4005720"/>
            <a:ext cx="25747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151C8-38B9-412B-94F3-3E163EEDCA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63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8880" y="1604880"/>
            <a:ext cx="799632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483F-E474-4877-8C79-348756856D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63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880" y="1604880"/>
            <a:ext cx="799632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B3FE-868A-4E16-92FB-0573F3CD4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63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8880" y="1604880"/>
            <a:ext cx="390204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86400" y="1604880"/>
            <a:ext cx="390204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A65B-D526-4988-A8D4-2E61E6584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63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1F5ED-7914-4B5A-B651-9824081B8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8880" y="488520"/>
            <a:ext cx="799632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80FED-C9B7-47F8-9384-28D1E94BE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63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8880" y="1604880"/>
            <a:ext cx="39020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86400" y="1604880"/>
            <a:ext cx="390204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8880" y="4005720"/>
            <a:ext cx="39020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41EA6-DE5F-4345-A35F-2F03A943E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63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8880" y="1604880"/>
            <a:ext cx="390204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6400" y="1604880"/>
            <a:ext cx="39020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86400" y="4005720"/>
            <a:ext cx="39020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E8F5-2902-4697-92D9-28B2E8AAC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63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8880" y="1604880"/>
            <a:ext cx="39020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86400" y="1604880"/>
            <a:ext cx="39020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880" y="4005720"/>
            <a:ext cx="79963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ED9F-6896-4D00-B5D7-9BC925811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63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8880" y="1604880"/>
            <a:ext cx="799632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88880" y="6346800"/>
            <a:ext cx="2121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49640" y="6346800"/>
            <a:ext cx="28843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63880" y="6346440"/>
            <a:ext cx="211788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EA94F-CA2D-4272-B034-4BB42A126FF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ensus.gov/prod/1/gen/interior/hunt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2012 North Carolina Graduation Proje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Alex Mens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8880" y="488880"/>
            <a:ext cx="79995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604880"/>
            <a:ext cx="79246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y product I planted five food plots at a farm in Beaufort County North Carolina in June of 2011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the extreme drought and Hurricane Irene, these food plots failed. Some flooded while others dried u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776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390204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86040" y="1604520"/>
            <a:ext cx="390204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3429000" cy="3029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724280" y="1771560"/>
            <a:ext cx="350532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ictur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25640" y="1600200"/>
            <a:ext cx="2876400" cy="2157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241960" y="1600200"/>
            <a:ext cx="2876400" cy="2157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241960" y="3963960"/>
            <a:ext cx="2876400" cy="2157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025640" y="3963960"/>
            <a:ext cx="2876400" cy="21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ictur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25640" y="1600200"/>
            <a:ext cx="2876400" cy="2157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241960" y="1600200"/>
            <a:ext cx="2876400" cy="2157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241960" y="3963960"/>
            <a:ext cx="2876400" cy="2157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025640" y="3963960"/>
            <a:ext cx="2876400" cy="21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ictur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25640" y="1600200"/>
            <a:ext cx="2876400" cy="2157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241960" y="1600200"/>
            <a:ext cx="2876400" cy="2157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5241960" y="3963960"/>
            <a:ext cx="2876400" cy="2157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1025640" y="3963960"/>
            <a:ext cx="2876400" cy="21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 decided that it would be helpful to create a brochure to help hunters determine the best plants to include in food plots for the types of soil and climate of eastern North Carolina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 started to work on my brochure after I finished my pap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st of the time I spent of my brochure was on research of plant types and what environments they grow best i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 did not have a mentor but I do not think that having one would have helped me much because most of the work that I had to do was research.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867280" y="43434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79600" y="434340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170160" y="3379680"/>
            <a:ext cx="2697120" cy="192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ccesses and Challeng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ccess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Plant Growt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Finished the produc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alleng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Time Manage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Growing Seaso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Technological problem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Weather/Hurrican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Travel Time and Distanc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3098880" cy="23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60020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my paper I talked about the positives and the negatives of food plot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my product I tried to make some food plots with minimal damage to the ecosystem. I also made a brochure to help other people learn about what they needed to do to start their own food plo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88880" y="488880"/>
            <a:ext cx="79995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ject Reflection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604880"/>
            <a:ext cx="79246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rom this project I learned that there are a lot more fact based arguments against hunting then I thought.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However it is my opinion that the benefits of hunting and wildlife management  far outweigh the negatives.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 also learned how to make a better food plot.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 plan to continue to make food plots on the land I hunt. 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pic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600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topic is the pros and cons of hunting and wildlife management including construction and maintenance of food plot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88880" y="488880"/>
            <a:ext cx="79995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pecial Thanks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604880"/>
            <a:ext cx="79246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pecial tanks to my teachers for keeping me on track with the deadlines.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xtra thanks to William Wescott for allowing me to put food plots on his land.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88880" y="488880"/>
            <a:ext cx="79995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 Unicode MS"/>
              </a:rPr>
              <a:t>Work Cited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635040" y="1604880"/>
            <a:ext cx="773892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United States. US Census Bureau. Hunting Highlights. US Census Bureau. Web. &lt;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2"/>
              </a:rPr>
              <a:t>http://www.census.gov/prod/1/gen/interior/hunt.pd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Carmichel, Jim. "Use of High-tech Gadgets Diminishes Hunting Skills." Outdoor Life214 (Apr. 2007): 29. Rpt. in Hunting. Ed. Dawn Laney. Detroit: Greenhaven Press, 2008. Opposing Viewpoints. Gale Opposing Viewpoints In Context. Web. 22 Mar. 201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Clark, Ward M. "Hunting Is a Natural, Ethical, and Healthy Undertaking."www.wildfowling.co.uk (2004). Rpt. in Hunting. Ed. Dawn Laney. Detroit: Greenhaven Press, 2008. Opposing Viewpoints. Gale Opposing Viewpoints In Context. Web. 21 Feb. 2011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"Hunting Plays a Crucial Role in Maintaining Natural Habitats and the Environment."Hunting. Ed. Dawn Laney. Detroit: Greenhaven Press, 2008. Opposing Viewpoints. Gale Opposing Viewpoints In Context. Web. 22 Feb. 2011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ducational Exempt from Copyr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imSun"/>
              </a:rPr>
              <a:t>This presentation has been prepared under the fair use exemption of the US Copyright Law and is restricted from further us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1604880"/>
            <a:ext cx="792468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there any question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e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am a hun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wanted to learn what the arguments were against hunting to better understand why some people object to hunting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riving Questio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some of the justifications for hunting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sis Statement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thout hunting an entire way of life will decrease; there will be a massive increase in animal-related car wrecks, an overall decrease in crop yield, a drop in the economy, and an offset of the balance that exists in today’s ecosystem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nting is an important tool for wildlife conserv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astern US has been over-browsed for many yea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nting can be a positive for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, hunters’ expenditures total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12.3 bill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88880" y="488880"/>
            <a:ext cx="79995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ldlife Management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604880"/>
            <a:ext cx="79246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Wildlife management is the art of making land produce sustained annual crops of wild game for recreational use.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e goal of a good wildlife management project is to…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853920" indent="-457200">
              <a:lnSpc>
                <a:spcPct val="93000"/>
              </a:lnSpc>
              <a:spcAft>
                <a:spcPts val="1026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SimSun"/>
              </a:rPr>
              <a:t>Benefit the health of the ecosystem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853920" indent="-457200">
              <a:lnSpc>
                <a:spcPct val="93000"/>
              </a:lnSpc>
              <a:spcAft>
                <a:spcPts val="1026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SimSun"/>
              </a:rPr>
              <a:t>Manage population levels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853920" indent="-457200">
              <a:lnSpc>
                <a:spcPct val="93000"/>
              </a:lnSpc>
              <a:spcAft>
                <a:spcPts val="1026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SimSun"/>
              </a:rPr>
              <a:t>Decrease wildlife damage to crops and landscaping in the area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88880" y="488880"/>
            <a:ext cx="8001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at I learned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604880"/>
            <a:ext cx="79246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100000"/>
              </a:lnSpc>
              <a:spcAft>
                <a:spcPts val="1287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While doing my research I learned there are a lot of very valid arguments for and against hunting and the management of hunt-able animals.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428760" indent="-324000">
              <a:lnSpc>
                <a:spcPct val="100000"/>
              </a:lnSpc>
              <a:spcAft>
                <a:spcPts val="1287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od plots are not always beneficial to ecosystems.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88880" y="488880"/>
            <a:ext cx="79995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at I learned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604880"/>
            <a:ext cx="79246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argument against food plots is food plots are created for the benefit of 10% on animals in an area while removing habitat for 90% of animals in an area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However food plots and other wildlife management techniques when done correctly can greatly improve the health of the ecosystem on and around the property.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00:11:21Z</dcterms:created>
  <dc:creator>Mense</dc:creator>
  <dc:description/>
  <dc:language>en-US</dc:language>
  <cp:lastModifiedBy>Mense</cp:lastModifiedBy>
  <dcterms:modified xsi:type="dcterms:W3CDTF">2012-04-17T20:34:35Z</dcterms:modified>
  <cp:revision>39</cp:revision>
  <dc:subject/>
  <dc:title>PowerPoint Presentation</dc:title>
</cp:coreProperties>
</file>